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1120" y="1828800"/>
            <a:ext cx="109220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8433e"/>
                </a:solidFill>
                <a:latin typeface="Gill Sans Light"/>
              </a:rPr>
              <a:t>Click to edit the title text format</a:t>
            </a:r>
            <a:endParaRPr b="0" lang="en-US" sz="64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1120" y="5245200"/>
            <a:ext cx="109220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1" algn="ctr">
              <a:spcBef>
                <a:spcPts val="11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2" algn="ctr">
              <a:spcBef>
                <a:spcPts val="11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3" algn="ctr">
              <a:spcBef>
                <a:spcPts val="11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4" algn="ctr">
              <a:spcBef>
                <a:spcPts val="11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5" algn="ctr">
              <a:spcBef>
                <a:spcPts val="11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6" algn="ctr">
              <a:spcBef>
                <a:spcPts val="11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8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1041480" y="276840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502920" indent="-50292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1" marL="849240" indent="-50256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2" marL="1240560" indent="-50292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3" marL="1631520" indent="-50292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4" marL="2022480" indent="-50256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5" marL="2022480" indent="-50256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6" marL="2022480" indent="-50256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8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-57168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1" marL="965160" indent="-57132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2" marL="1409760" indent="-57168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3" marL="1854360" indent="-57168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4" marL="2298600" indent="-57132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5" marL="2298600" indent="-57132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6" marL="2298600" indent="-57132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3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1003320" y="8064360"/>
            <a:ext cx="10998360" cy="6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3"/>
          <a:stretch/>
        </p:blipFill>
        <p:spPr>
          <a:xfrm>
            <a:off x="1003320" y="8064360"/>
            <a:ext cx="10998360" cy="6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8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554400" indent="-554400">
              <a:spcBef>
                <a:spcPts val="51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1" marL="985320" indent="-554040">
              <a:spcBef>
                <a:spcPts val="51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2" marL="1416600" indent="-554400">
              <a:spcBef>
                <a:spcPts val="51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3" marL="1847880" indent="-554400">
              <a:spcBef>
                <a:spcPts val="51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4" marL="2278800" indent="-554040">
              <a:spcBef>
                <a:spcPts val="51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5" marL="2278800" indent="-554040">
              <a:spcBef>
                <a:spcPts val="7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6" marL="2278800" indent="-554040">
              <a:spcBef>
                <a:spcPts val="7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8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041480" y="276840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502920" indent="-50292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1" marL="849240" indent="-50256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2" marL="1240560" indent="-50292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3" marL="1631520" indent="-50292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4" marL="2022480" indent="-50256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5" marL="2022480" indent="-50256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6" marL="2022480" indent="-50256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8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09920" y="2768400"/>
            <a:ext cx="4953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502920" indent="-50292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1" marL="849240" indent="-50256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2" marL="1240560" indent="-50292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3" marL="1631520" indent="-50292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4" marL="2022480" indent="-50256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5" marL="2022480" indent="-50256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6" marL="2022480" indent="-50256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41120" y="6959520"/>
            <a:ext cx="10922040" cy="101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8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041120" y="8292960"/>
            <a:ext cx="1092204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1" algn="ctr">
              <a:buClr>
                <a:srgbClr val="48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2" algn="ctr">
              <a:buClr>
                <a:srgbClr val="48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3" algn="ctr">
              <a:buClr>
                <a:srgbClr val="48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4" algn="ctr">
              <a:buClr>
                <a:srgbClr val="48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5" algn="ctr">
              <a:buClr>
                <a:srgbClr val="48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6" algn="ctr">
              <a:buClr>
                <a:srgbClr val="48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1003320" y="8115480"/>
            <a:ext cx="10998360" cy="6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8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41120" y="2971800"/>
            <a:ext cx="109220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8433e"/>
                </a:solidFill>
                <a:latin typeface="Gill Sans Light"/>
              </a:rPr>
              <a:t>Click to edit the title text format</a:t>
            </a:r>
            <a:endParaRPr b="0" lang="en-US" sz="64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8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1" marL="965160" indent="-57132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2" marL="1409760" indent="-57168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3" marL="1854360" indent="-57168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4" marL="2298600" indent="-57132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5" marL="2298600" indent="-57132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6" marL="2298600" indent="-57132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1041120" y="1828440"/>
            <a:ext cx="10922040" cy="6095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491400" indent="-491400">
              <a:spcBef>
                <a:spcPts val="51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1" marL="829800" indent="-491040">
              <a:spcBef>
                <a:spcPts val="51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2" marL="1212120" indent="-491400">
              <a:spcBef>
                <a:spcPts val="51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3" marL="1594440" indent="-491400">
              <a:spcBef>
                <a:spcPts val="51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4" marL="1976760" indent="-491040">
              <a:spcBef>
                <a:spcPts val="51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5" marL="1976760" indent="-491040">
              <a:spcBef>
                <a:spcPts val="51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6" marL="1976760" indent="-491040">
              <a:spcBef>
                <a:spcPts val="51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orldhistory.abc-clio.com/Search/Display.aspx?categoryid=22&amp;entryid=315996&amp;searchtext=louis+sullivan&amp;type=simple&amp;option=all" TargetMode="External"/><Relationship Id="rId3" Type="http://schemas.openxmlformats.org/officeDocument/2006/relationships/hyperlink" Target="http://www.worldhistory.abc-clio.com/Search/Display.aspx?categoryid=22&amp;entryid=306914&amp;searchtext=frank+lloyd+wright&amp;type=simple&amp;option=all" TargetMode="External"/><Relationship Id="rId4" Type="http://schemas.openxmlformats.org/officeDocument/2006/relationships/hyperlink" Target="http://www.worldhistory.abc-clio.com/Search/Display.aspx?categoryid=22&amp;entryid=306914&amp;searchtext=frank+lloyd+wright&amp;type=simple&amp;option=all" TargetMode="External"/><Relationship Id="rId5" Type="http://schemas.openxmlformats.org/officeDocument/2006/relationships/hyperlink" Target="http://www.worldhistory.abc-clio.com/Search/Display.aspx?categoryid=22&amp;entryid=306914&amp;searchtext=frank+lloyd+wright&amp;type=simple&amp;option=all" TargetMode="External"/><Relationship Id="rId6" Type="http://schemas.openxmlformats.org/officeDocument/2006/relationships/hyperlink" Target="http://www.worldhistory.abc-clio.com/Search/Display.aspx?categoryid=22&amp;entryid=306914&amp;searchtext=frank+lloyd+wright&amp;type=simple&amp;option=all" TargetMode="External"/><Relationship Id="rId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25400" y="5866920"/>
            <a:ext cx="97534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Gill Sans Light"/>
              </a:rPr>
              <a:t>Louis Sullivan</a:t>
            </a:r>
            <a:br>
              <a:rPr sz="4200"/>
            </a:br>
            <a:r>
              <a:rPr b="0" lang="en-US" sz="4200" spc="-1" strike="noStrike">
                <a:solidFill>
                  <a:srgbClr val="48433e"/>
                </a:solidFill>
                <a:latin typeface="Gill Sans Light"/>
              </a:rPr>
              <a:t> &amp; Frank Lloyd Wright</a:t>
            </a:r>
            <a:endParaRPr b="0" lang="en-US" sz="4200" spc="-1" strike="noStrike">
              <a:solidFill>
                <a:srgbClr val="48433e"/>
              </a:solidFill>
              <a:latin typeface="Gill Sans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8433e"/>
              </a:solidFill>
              <a:latin typeface="Gill Sans Light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0" y="0"/>
            <a:ext cx="3009960" cy="4254480"/>
            <a:chOff x="0" y="0"/>
            <a:chExt cx="3009960" cy="4254480"/>
          </a:xfrm>
        </p:grpSpPr>
        <p:pic>
          <p:nvPicPr>
            <p:cNvPr id="498" name="" descr=""/>
            <p:cNvPicPr/>
            <p:nvPr/>
          </p:nvPicPr>
          <p:blipFill>
            <a:blip r:embed="rId2"/>
            <a:srcRect l="8471" t="0" r="5147" b="0"/>
            <a:stretch/>
          </p:blipFill>
          <p:spPr>
            <a:xfrm>
              <a:off x="216000" y="227160"/>
              <a:ext cx="2577960" cy="38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3009960" cy="425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0" name=""/>
          <p:cNvGrpSpPr/>
          <p:nvPr/>
        </p:nvGrpSpPr>
        <p:grpSpPr>
          <a:xfrm>
            <a:off x="0" y="12600"/>
            <a:ext cx="11809440" cy="8877240"/>
            <a:chOff x="0" y="12600"/>
            <a:chExt cx="11809440" cy="8877240"/>
          </a:xfrm>
        </p:grpSpPr>
        <p:pic>
          <p:nvPicPr>
            <p:cNvPr id="501" name="" descr=""/>
            <p:cNvPicPr/>
            <p:nvPr/>
          </p:nvPicPr>
          <p:blipFill>
            <a:blip r:embed="rId4"/>
            <a:stretch/>
          </p:blipFill>
          <p:spPr>
            <a:xfrm>
              <a:off x="0" y="12600"/>
              <a:ext cx="3395520" cy="10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10056960" y="8432640"/>
              <a:ext cx="1752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Light"/>
                  <a:ea typeface="Gill Sans Light"/>
                </a:rPr>
                <a:t>presented by</a:t>
              </a:r>
              <a:endParaRPr b="0" lang="en-US" sz="1800" spc="-1" strike="noStrike">
                <a:solidFill>
                  <a:srgbClr val="48433e"/>
                </a:solidFill>
                <a:latin typeface="Bradley Hand ITC TT-Bold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0" y="0"/>
            <a:ext cx="2921040" cy="4267080"/>
            <a:chOff x="0" y="0"/>
            <a:chExt cx="2921040" cy="4267080"/>
          </a:xfrm>
        </p:grpSpPr>
        <p:pic>
          <p:nvPicPr>
            <p:cNvPr id="504" name="" descr=""/>
            <p:cNvPicPr/>
            <p:nvPr/>
          </p:nvPicPr>
          <p:blipFill>
            <a:blip r:embed="rId5"/>
            <a:stretch/>
          </p:blipFill>
          <p:spPr>
            <a:xfrm>
              <a:off x="216000" y="216000"/>
              <a:ext cx="2489040" cy="383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2921040" cy="426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6" name=""/>
          <p:cNvSpPr/>
          <p:nvPr/>
        </p:nvSpPr>
        <p:spPr>
          <a:xfrm flipH="1" rot="10800000">
            <a:off x="2424600" y="7480440"/>
            <a:ext cx="814068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767"/>
                </a:solidFill>
                <a:latin typeface="Zapfino"/>
                <a:ea typeface="Zapfino"/>
              </a:rPr>
              <a:t>The Greatest Architects of America</a:t>
            </a:r>
            <a:endParaRPr b="0" lang="en-US" sz="14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"/>
          <p:cNvGrpSpPr/>
          <p:nvPr/>
        </p:nvGrpSpPr>
        <p:grpSpPr>
          <a:xfrm>
            <a:off x="0" y="0"/>
            <a:ext cx="2921040" cy="4267080"/>
            <a:chOff x="0" y="0"/>
            <a:chExt cx="2921040" cy="4267080"/>
          </a:xfrm>
        </p:grpSpPr>
        <p:pic>
          <p:nvPicPr>
            <p:cNvPr id="508" name="" descr=""/>
            <p:cNvPicPr/>
            <p:nvPr/>
          </p:nvPicPr>
          <p:blipFill>
            <a:blip r:embed="rId2"/>
            <a:stretch/>
          </p:blipFill>
          <p:spPr>
            <a:xfrm>
              <a:off x="216000" y="216000"/>
              <a:ext cx="2489040" cy="383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921040" cy="426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803240" y="7137000"/>
            <a:ext cx="975384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Gill Sans Light"/>
              </a:rPr>
              <a:t>Louis Sullivan</a:t>
            </a:r>
            <a:br>
              <a:rPr sz="4200"/>
            </a:br>
            <a:r>
              <a:rPr b="0" lang="en-US" sz="4200" spc="-1" strike="noStrike">
                <a:solidFill>
                  <a:srgbClr val="48433e"/>
                </a:solidFill>
                <a:latin typeface="Gill Sans Light"/>
              </a:rPr>
              <a:t>1856 - 1924</a:t>
            </a:r>
            <a:endParaRPr b="0" lang="en-US" sz="4200" spc="-1" strike="noStrike">
              <a:solidFill>
                <a:srgbClr val="48433e"/>
              </a:solidFill>
              <a:latin typeface="Gill Sans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0" y="0"/>
            <a:ext cx="2197080" cy="3048120"/>
            <a:chOff x="0" y="0"/>
            <a:chExt cx="2197080" cy="3048120"/>
          </a:xfrm>
        </p:grpSpPr>
        <p:pic>
          <p:nvPicPr>
            <p:cNvPr id="512" name="" descr=""/>
            <p:cNvPicPr/>
            <p:nvPr/>
          </p:nvPicPr>
          <p:blipFill>
            <a:blip r:embed="rId4"/>
            <a:stretch/>
          </p:blipFill>
          <p:spPr>
            <a:xfrm>
              <a:off x="216000" y="216000"/>
              <a:ext cx="1765080" cy="260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2197080" cy="304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4" name=""/>
          <p:cNvGrpSpPr/>
          <p:nvPr/>
        </p:nvGrpSpPr>
        <p:grpSpPr>
          <a:xfrm>
            <a:off x="0" y="0"/>
            <a:ext cx="2641680" cy="3073320"/>
            <a:chOff x="0" y="0"/>
            <a:chExt cx="2641680" cy="3073320"/>
          </a:xfrm>
        </p:grpSpPr>
        <p:pic>
          <p:nvPicPr>
            <p:cNvPr id="515" name="" descr=""/>
            <p:cNvPicPr/>
            <p:nvPr/>
          </p:nvPicPr>
          <p:blipFill>
            <a:blip r:embed="rId6"/>
            <a:stretch/>
          </p:blipFill>
          <p:spPr>
            <a:xfrm>
              <a:off x="216000" y="216000"/>
              <a:ext cx="2198520" cy="26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2641680" cy="3073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625400" y="749160"/>
            <a:ext cx="975348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Gill Sans Light"/>
              </a:rPr>
              <a:t>LOUIS SULLIVAN</a:t>
            </a:r>
            <a:br>
              <a:rPr sz="4200"/>
            </a:br>
            <a:endParaRPr b="0" lang="en-US" sz="4200" spc="-1" strike="noStrike">
              <a:solidFill>
                <a:srgbClr val="48433e"/>
              </a:solidFill>
              <a:latin typeface="Gill Sans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518" name=""/>
          <p:cNvSpPr/>
          <p:nvPr/>
        </p:nvSpPr>
        <p:spPr>
          <a:xfrm flipH="1" rot="10800000">
            <a:off x="2850120" y="1695600"/>
            <a:ext cx="7289640" cy="25200"/>
          </a:xfrm>
          <a:prstGeom prst="rect">
            <a:avLst/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519" name=""/>
          <p:cNvSpPr/>
          <p:nvPr/>
        </p:nvSpPr>
        <p:spPr>
          <a:xfrm>
            <a:off x="1035000" y="2158920"/>
            <a:ext cx="1061712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079640" indent="-720720">
              <a:lnSpc>
                <a:spcPct val="100000"/>
              </a:lnSpc>
              <a:buClr>
                <a:srgbClr val="000000"/>
              </a:buClr>
              <a:buSzPct val="11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America’s most influential architect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  <a:p>
            <a:pPr marL="1079640" indent="-720720">
              <a:lnSpc>
                <a:spcPct val="100000"/>
              </a:lnSpc>
              <a:buClr>
                <a:srgbClr val="000000"/>
              </a:buClr>
              <a:buSzPct val="11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“</a:t>
            </a:r>
            <a:r>
              <a:rPr b="0" i="1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father of modernism”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  <a:p>
            <a:pPr marL="1079640" indent="-720720">
              <a:lnSpc>
                <a:spcPct val="100000"/>
              </a:lnSpc>
              <a:buClr>
                <a:srgbClr val="000000"/>
              </a:buClr>
              <a:buSzPct val="11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creator of the modern skyscraper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  <a:p>
            <a:pPr marL="1079640" indent="-720720">
              <a:lnSpc>
                <a:spcPct val="100000"/>
              </a:lnSpc>
              <a:buClr>
                <a:srgbClr val="000000"/>
              </a:buClr>
              <a:buSzPct val="11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mentor of Frank Lloyd Wright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  <a:p>
            <a:pPr marL="1079640" indent="-720720">
              <a:lnSpc>
                <a:spcPct val="100000"/>
              </a:lnSpc>
              <a:buClr>
                <a:srgbClr val="000000"/>
              </a:buClr>
              <a:buSzPct val="11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inspiration to the Prairie School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0" y="0"/>
            <a:ext cx="3505320" cy="4978440"/>
            <a:chOff x="0" y="0"/>
            <a:chExt cx="3505320" cy="4978440"/>
          </a:xfrm>
        </p:grpSpPr>
        <p:pic>
          <p:nvPicPr>
            <p:cNvPr id="521" name="" descr=""/>
            <p:cNvPicPr/>
            <p:nvPr/>
          </p:nvPicPr>
          <p:blipFill>
            <a:blip r:embed="rId2"/>
            <a:stretch/>
          </p:blipFill>
          <p:spPr>
            <a:xfrm>
              <a:off x="216000" y="216000"/>
              <a:ext cx="3073320" cy="454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3505320" cy="49784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25400" y="749160"/>
            <a:ext cx="975348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Gill Sans Light"/>
              </a:rPr>
              <a:t>EARLY LIFE</a:t>
            </a:r>
            <a:br>
              <a:rPr sz="4200"/>
            </a:br>
            <a:endParaRPr b="0" lang="en-US" sz="4200" spc="-1" strike="noStrike">
              <a:solidFill>
                <a:srgbClr val="48433e"/>
              </a:solidFill>
              <a:latin typeface="Gill Sans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524" name=""/>
          <p:cNvSpPr/>
          <p:nvPr/>
        </p:nvSpPr>
        <p:spPr>
          <a:xfrm flipH="1" rot="10800000">
            <a:off x="2850120" y="1695600"/>
            <a:ext cx="7289640" cy="25200"/>
          </a:xfrm>
          <a:prstGeom prst="rect">
            <a:avLst/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525" name=""/>
          <p:cNvSpPr/>
          <p:nvPr/>
        </p:nvSpPr>
        <p:spPr>
          <a:xfrm>
            <a:off x="1625760" y="2235240"/>
            <a:ext cx="97534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endParaRPr b="0" lang="en-US" sz="1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526" name=""/>
          <p:cNvSpPr/>
          <p:nvPr/>
        </p:nvSpPr>
        <p:spPr>
          <a:xfrm>
            <a:off x="1035000" y="2158920"/>
            <a:ext cx="1061712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079640" indent="-720720">
              <a:lnSpc>
                <a:spcPct val="100000"/>
              </a:lnSpc>
              <a:buClr>
                <a:srgbClr val="000000"/>
              </a:buClr>
              <a:buSzPct val="11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born to Irish and Swedish immigrants in 1856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  <a:p>
            <a:pPr marL="1079640" indent="-720720">
              <a:lnSpc>
                <a:spcPct val="100000"/>
              </a:lnSpc>
              <a:buClr>
                <a:srgbClr val="000000"/>
              </a:buClr>
              <a:buSzPct val="11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grew up at grandparent’s farm learning things about nature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  <a:p>
            <a:pPr marL="1079640" indent="-720720">
              <a:lnSpc>
                <a:spcPct val="100000"/>
              </a:lnSpc>
              <a:buClr>
                <a:srgbClr val="000000"/>
              </a:buClr>
              <a:buSzPct val="11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spent a lot of time around Boston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  <a:p>
            <a:pPr marL="1079640" indent="-720720">
              <a:lnSpc>
                <a:spcPct val="100000"/>
              </a:lnSpc>
              <a:buClr>
                <a:srgbClr val="000000"/>
              </a:buClr>
              <a:buSzPct val="11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exploring and looking at buildings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  <a:p>
            <a:pPr marL="1079640" indent="-720720">
              <a:lnSpc>
                <a:spcPct val="100000"/>
              </a:lnSpc>
              <a:buClr>
                <a:srgbClr val="000000"/>
              </a:buClr>
              <a:buSzPct val="11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studied architecture at Massachusetts Institute of Technology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  <a:p>
            <a:pPr marL="1079640" indent="-720720">
              <a:lnSpc>
                <a:spcPct val="100000"/>
              </a:lnSpc>
              <a:buClr>
                <a:srgbClr val="000000"/>
              </a:buClr>
              <a:buSzPct val="11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entered at the age of 16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  <a:p>
            <a:pPr marL="1079640" indent="-720720">
              <a:lnSpc>
                <a:spcPct val="100000"/>
              </a:lnSpc>
              <a:buClr>
                <a:srgbClr val="000000"/>
              </a:buClr>
              <a:buSzPct val="11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he left MIT in a year to live in Pennsylvania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  <a:p>
            <a:pPr marL="1079640" indent="-720720">
              <a:lnSpc>
                <a:spcPct val="100000"/>
              </a:lnSpc>
              <a:buClr>
                <a:srgbClr val="000000"/>
              </a:buClr>
              <a:buSzPct val="11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then he went to Chicago, where he worked with the </a:t>
            </a:r>
            <a:r>
              <a:rPr b="0" i="1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father of the skyscraper</a:t>
            </a:r>
            <a:r>
              <a:rPr b="0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, William Le Baron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625400" y="749160"/>
            <a:ext cx="975348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Gill Sans Light"/>
              </a:rPr>
              <a:t>...</a:t>
            </a:r>
            <a:br>
              <a:rPr sz="4200"/>
            </a:br>
            <a:endParaRPr b="0" lang="en-US" sz="4200" spc="-1" strike="noStrike">
              <a:solidFill>
                <a:srgbClr val="48433e"/>
              </a:solidFill>
              <a:latin typeface="Gill Sans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528" name=""/>
          <p:cNvSpPr/>
          <p:nvPr/>
        </p:nvSpPr>
        <p:spPr>
          <a:xfrm flipH="1" rot="10800000">
            <a:off x="2850120" y="1695600"/>
            <a:ext cx="7289640" cy="25200"/>
          </a:xfrm>
          <a:prstGeom prst="rect">
            <a:avLst/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529" name=""/>
          <p:cNvSpPr/>
          <p:nvPr/>
        </p:nvSpPr>
        <p:spPr>
          <a:xfrm>
            <a:off x="1035000" y="2158920"/>
            <a:ext cx="1061712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079640" indent="-720720">
              <a:lnSpc>
                <a:spcPct val="100000"/>
              </a:lnSpc>
              <a:buClr>
                <a:srgbClr val="000000"/>
              </a:buClr>
              <a:buSzPct val="11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went to Paris in 1874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  <a:p>
            <a:pPr marL="1079640" indent="-720720">
              <a:lnSpc>
                <a:spcPct val="100000"/>
              </a:lnSpc>
              <a:buClr>
                <a:srgbClr val="000000"/>
              </a:buClr>
              <a:buSzPct val="11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studied at Ecole des Beaux-Arts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  <a:p>
            <a:pPr marL="1079640" indent="-720720">
              <a:lnSpc>
                <a:spcPct val="100000"/>
              </a:lnSpc>
              <a:buClr>
                <a:srgbClr val="000000"/>
              </a:buClr>
              <a:buSzPct val="11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returned to Chicago in 1875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  <a:p>
            <a:pPr marL="1079640" indent="-720720">
              <a:lnSpc>
                <a:spcPct val="100000"/>
              </a:lnSpc>
              <a:buClr>
                <a:srgbClr val="000000"/>
              </a:buClr>
              <a:buSzPct val="11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got a job as a draftsman in the office of Joseph S. Johnson &amp; John Edelman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  <a:p>
            <a:pPr marL="1079640" indent="-720720">
              <a:lnSpc>
                <a:spcPct val="100000"/>
              </a:lnSpc>
              <a:buClr>
                <a:srgbClr val="000000"/>
              </a:buClr>
              <a:buSzPct val="11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left Johnson in 1879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  <a:p>
            <a:pPr marL="1079640" indent="-720720">
              <a:lnSpc>
                <a:spcPct val="100000"/>
              </a:lnSpc>
              <a:buClr>
                <a:srgbClr val="000000"/>
              </a:buClr>
              <a:buSzPct val="11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worked in the office of Dankmar Adler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  <a:p>
            <a:pPr marL="1079640" indent="-720720">
              <a:lnSpc>
                <a:spcPct val="100000"/>
              </a:lnSpc>
              <a:buClr>
                <a:srgbClr val="000000"/>
              </a:buClr>
              <a:buSzPct val="11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the firm of Adler &amp; Sullivan designed over 180 buildings during its existence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625400" y="749160"/>
            <a:ext cx="975348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Gill Sans Light"/>
              </a:rPr>
              <a:t>...</a:t>
            </a:r>
            <a:br>
              <a:rPr sz="4200"/>
            </a:br>
            <a:endParaRPr b="0" lang="en-US" sz="4200" spc="-1" strike="noStrike">
              <a:solidFill>
                <a:srgbClr val="48433e"/>
              </a:solidFill>
              <a:latin typeface="Gill Sans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531" name=""/>
          <p:cNvSpPr/>
          <p:nvPr/>
        </p:nvSpPr>
        <p:spPr>
          <a:xfrm flipH="1" rot="10800000">
            <a:off x="2850120" y="1695600"/>
            <a:ext cx="7289640" cy="25200"/>
          </a:xfrm>
          <a:prstGeom prst="rect">
            <a:avLst/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532" name=""/>
          <p:cNvSpPr/>
          <p:nvPr/>
        </p:nvSpPr>
        <p:spPr>
          <a:xfrm>
            <a:off x="1035000" y="2158920"/>
            <a:ext cx="106171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079640" indent="-720720">
              <a:lnSpc>
                <a:spcPct val="100000"/>
              </a:lnSpc>
              <a:buClr>
                <a:srgbClr val="000000"/>
              </a:buClr>
              <a:buSzPct val="11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Frank Lloyd Wright joined the firm in 1887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  <a:p>
            <a:pPr marL="1079640" indent="-720720">
              <a:lnSpc>
                <a:spcPct val="100000"/>
              </a:lnSpc>
              <a:buClr>
                <a:srgbClr val="000000"/>
              </a:buClr>
              <a:buSzPct val="11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0" y="0"/>
            <a:ext cx="1434960" cy="1968480"/>
            <a:chOff x="0" y="0"/>
            <a:chExt cx="1434960" cy="1968480"/>
          </a:xfrm>
        </p:grpSpPr>
        <p:pic>
          <p:nvPicPr>
            <p:cNvPr id="534" name="" descr=""/>
            <p:cNvPicPr/>
            <p:nvPr/>
          </p:nvPicPr>
          <p:blipFill>
            <a:blip r:embed="rId2"/>
            <a:srcRect l="8471" t="0" r="5147" b="0"/>
            <a:stretch/>
          </p:blipFill>
          <p:spPr>
            <a:xfrm>
              <a:off x="152280" y="157320"/>
              <a:ext cx="1130400" cy="16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434960" cy="196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6" name=""/>
          <p:cNvSpPr/>
          <p:nvPr/>
        </p:nvSpPr>
        <p:spPr>
          <a:xfrm>
            <a:off x="1035000" y="2679840"/>
            <a:ext cx="10617120" cy="63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079640" indent="-720720">
              <a:lnSpc>
                <a:spcPct val="100000"/>
              </a:lnSpc>
              <a:buClr>
                <a:srgbClr val="000000"/>
              </a:buClr>
              <a:buSzPct val="11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Sullivan became Wright’s mentor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  <a:p>
            <a:pPr marL="1079640" indent="-720720">
              <a:lnSpc>
                <a:spcPct val="100000"/>
              </a:lnSpc>
              <a:buClr>
                <a:srgbClr val="000000"/>
              </a:buClr>
              <a:buSzPct val="11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25400" y="749160"/>
            <a:ext cx="975348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Gill Sans Light"/>
              </a:rPr>
              <a:t>Contribution</a:t>
            </a:r>
            <a:br>
              <a:rPr sz="4200"/>
            </a:br>
            <a:endParaRPr b="0" lang="en-US" sz="4200" spc="-1" strike="noStrike">
              <a:solidFill>
                <a:srgbClr val="48433e"/>
              </a:solidFill>
              <a:latin typeface="Gill Sans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538" name=""/>
          <p:cNvSpPr/>
          <p:nvPr/>
        </p:nvSpPr>
        <p:spPr>
          <a:xfrm flipH="1" rot="10800000">
            <a:off x="2850120" y="1695600"/>
            <a:ext cx="7289640" cy="25200"/>
          </a:xfrm>
          <a:prstGeom prst="rect">
            <a:avLst/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539" name=""/>
          <p:cNvSpPr/>
          <p:nvPr/>
        </p:nvSpPr>
        <p:spPr>
          <a:xfrm>
            <a:off x="1035000" y="2158920"/>
            <a:ext cx="1061712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079640" indent="-720720">
              <a:lnSpc>
                <a:spcPct val="100000"/>
              </a:lnSpc>
              <a:buClr>
                <a:srgbClr val="48433e"/>
              </a:buClr>
              <a:buSzPct val="11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433e"/>
                </a:solidFill>
                <a:latin typeface="Gill Sans Light"/>
                <a:ea typeface="Gill Sans Light"/>
              </a:rPr>
              <a:t>development of the high-rise building, skyscrapers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  <a:p>
            <a:pPr marL="1079640" indent="-720720">
              <a:lnSpc>
                <a:spcPct val="100000"/>
              </a:lnSpc>
              <a:buClr>
                <a:srgbClr val="48433e"/>
              </a:buClr>
              <a:buSzPct val="11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433e"/>
                </a:solidFill>
                <a:latin typeface="Gill Sans Light"/>
                <a:ea typeface="Gill Sans Light"/>
              </a:rPr>
              <a:t>great mentor of Frank Lloyd Wright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"/>
          <p:cNvGrpSpPr/>
          <p:nvPr/>
        </p:nvGrpSpPr>
        <p:grpSpPr>
          <a:xfrm>
            <a:off x="0" y="0"/>
            <a:ext cx="3911760" cy="4254480"/>
            <a:chOff x="0" y="0"/>
            <a:chExt cx="3911760" cy="4254480"/>
          </a:xfrm>
        </p:grpSpPr>
        <p:pic>
          <p:nvPicPr>
            <p:cNvPr id="541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216000" y="216000"/>
              <a:ext cx="3470040" cy="38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3911760" cy="425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3" name=""/>
          <p:cNvGrpSpPr/>
          <p:nvPr/>
        </p:nvGrpSpPr>
        <p:grpSpPr>
          <a:xfrm>
            <a:off x="0" y="0"/>
            <a:ext cx="3619440" cy="2933640"/>
            <a:chOff x="0" y="0"/>
            <a:chExt cx="3619440" cy="2933640"/>
          </a:xfrm>
        </p:grpSpPr>
        <p:pic>
          <p:nvPicPr>
            <p:cNvPr id="544" name="" descr=""/>
            <p:cNvPicPr/>
            <p:nvPr/>
          </p:nvPicPr>
          <p:blipFill>
            <a:blip r:embed="rId4"/>
            <a:stretch/>
          </p:blipFill>
          <p:spPr>
            <a:xfrm>
              <a:off x="214200" y="216000"/>
              <a:ext cx="3186360" cy="250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3619440" cy="293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6" name=""/>
          <p:cNvGrpSpPr/>
          <p:nvPr/>
        </p:nvGrpSpPr>
        <p:grpSpPr>
          <a:xfrm>
            <a:off x="0" y="0"/>
            <a:ext cx="2819520" cy="3670200"/>
            <a:chOff x="0" y="0"/>
            <a:chExt cx="2819520" cy="3670200"/>
          </a:xfrm>
        </p:grpSpPr>
        <p:pic>
          <p:nvPicPr>
            <p:cNvPr id="547" name="" descr=""/>
            <p:cNvPicPr/>
            <p:nvPr/>
          </p:nvPicPr>
          <p:blipFill>
            <a:blip r:embed="rId6"/>
            <a:stretch/>
          </p:blipFill>
          <p:spPr>
            <a:xfrm>
              <a:off x="216000" y="216000"/>
              <a:ext cx="2376360" cy="32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2819520" cy="367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9" name=""/>
          <p:cNvGrpSpPr/>
          <p:nvPr/>
        </p:nvGrpSpPr>
        <p:grpSpPr>
          <a:xfrm>
            <a:off x="0" y="0"/>
            <a:ext cx="2997360" cy="3670200"/>
            <a:chOff x="0" y="0"/>
            <a:chExt cx="2997360" cy="3670200"/>
          </a:xfrm>
        </p:grpSpPr>
        <p:pic>
          <p:nvPicPr>
            <p:cNvPr id="550" name="" descr=""/>
            <p:cNvPicPr/>
            <p:nvPr/>
          </p:nvPicPr>
          <p:blipFill>
            <a:blip r:embed="rId8"/>
            <a:stretch/>
          </p:blipFill>
          <p:spPr>
            <a:xfrm>
              <a:off x="216000" y="214200"/>
              <a:ext cx="2565360" cy="323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" descr=""/>
            <p:cNvPicPr/>
            <p:nvPr/>
          </p:nvPicPr>
          <p:blipFill>
            <a:blip r:embed="rId9"/>
            <a:stretch/>
          </p:blipFill>
          <p:spPr>
            <a:xfrm>
              <a:off x="0" y="0"/>
              <a:ext cx="2997360" cy="367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2" name=""/>
          <p:cNvGrpSpPr/>
          <p:nvPr/>
        </p:nvGrpSpPr>
        <p:grpSpPr>
          <a:xfrm>
            <a:off x="0" y="0"/>
            <a:ext cx="3429000" cy="4343400"/>
            <a:chOff x="0" y="0"/>
            <a:chExt cx="3429000" cy="4343400"/>
          </a:xfrm>
        </p:grpSpPr>
        <p:pic>
          <p:nvPicPr>
            <p:cNvPr id="553" name="" descr=""/>
            <p:cNvPicPr/>
            <p:nvPr/>
          </p:nvPicPr>
          <p:blipFill>
            <a:blip r:embed="rId10"/>
            <a:stretch/>
          </p:blipFill>
          <p:spPr>
            <a:xfrm>
              <a:off x="216000" y="216000"/>
              <a:ext cx="2989080" cy="39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3429000" cy="434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5" name=""/>
          <p:cNvGrpSpPr/>
          <p:nvPr/>
        </p:nvGrpSpPr>
        <p:grpSpPr>
          <a:xfrm>
            <a:off x="0" y="0"/>
            <a:ext cx="2806560" cy="3479760"/>
            <a:chOff x="0" y="0"/>
            <a:chExt cx="2806560" cy="3479760"/>
          </a:xfrm>
        </p:grpSpPr>
        <p:pic>
          <p:nvPicPr>
            <p:cNvPr id="556" name="" descr=""/>
            <p:cNvPicPr/>
            <p:nvPr/>
          </p:nvPicPr>
          <p:blipFill>
            <a:blip r:embed="rId12"/>
            <a:srcRect l="5740" t="4650" r="3872" b="7868"/>
            <a:stretch/>
          </p:blipFill>
          <p:spPr>
            <a:xfrm>
              <a:off x="216000" y="216000"/>
              <a:ext cx="2369880" cy="30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" descr=""/>
            <p:cNvPicPr/>
            <p:nvPr/>
          </p:nvPicPr>
          <p:blipFill>
            <a:blip r:embed="rId13"/>
            <a:stretch/>
          </p:blipFill>
          <p:spPr>
            <a:xfrm>
              <a:off x="0" y="0"/>
              <a:ext cx="2806560" cy="3479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625400" y="749160"/>
            <a:ext cx="975348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Gill Sans Light"/>
              </a:rPr>
              <a:t>Bibliography</a:t>
            </a:r>
            <a:br>
              <a:rPr sz="4200"/>
            </a:br>
            <a:endParaRPr b="0" lang="en-US" sz="4200" spc="-1" strike="noStrike">
              <a:solidFill>
                <a:srgbClr val="48433e"/>
              </a:solidFill>
              <a:latin typeface="Gill Sans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559" name=""/>
          <p:cNvSpPr/>
          <p:nvPr/>
        </p:nvSpPr>
        <p:spPr>
          <a:xfrm flipH="1" rot="10800000">
            <a:off x="2850120" y="1695600"/>
            <a:ext cx="7289640" cy="25200"/>
          </a:xfrm>
          <a:prstGeom prst="rect">
            <a:avLst/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560" name=""/>
          <p:cNvSpPr/>
          <p:nvPr/>
        </p:nvSpPr>
        <p:spPr>
          <a:xfrm>
            <a:off x="1035000" y="2158920"/>
            <a:ext cx="1061712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Gill Sans Light"/>
                <a:ea typeface="Gill Sans Light"/>
                <a:hlinkClick r:id="rId2"/>
              </a:rPr>
              <a:t>http://www.worldhistory.abc-clio.com/Search/Display.aspx?categoryid=22&amp;entryid=315996&amp;searchtext=louis+sullivan&amp;type=simple&amp;option=all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48433e"/>
                </a:solidFill>
                <a:uFillTx/>
                <a:latin typeface="Gill Sans Light"/>
                <a:ea typeface="Gill Sans Light"/>
              </a:rPr>
              <a:t>http://www.worldhistory.abc-clio.com/Search/Display.aspx?categoryid=22&amp;entryid=306914&amp;searchtext=frank+lloyd+wright&amp;type=simple&amp;option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Gill Sans Light"/>
                <a:ea typeface="Gill Sans Light"/>
                <a:hlinkClick r:id="rId3"/>
              </a:rPr>
              <a:t>=all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Gill Sans Light"/>
                <a:ea typeface="Gill Sans Light"/>
                <a:hlinkClick r:id="rId4"/>
              </a:rPr>
              <a:t>http://www.prairiestyles.com/lsullivan.htm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Gill Sans Light"/>
                <a:ea typeface="Gill Sans Light"/>
                <a:hlinkClick r:id="rId5"/>
              </a:rPr>
              <a:t>http://en.wikipedia.org/wiki/Louis_Sullivan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Gill Sans Light"/>
                <a:ea typeface="Gill Sans Light"/>
                <a:hlinkClick r:id="rId6"/>
              </a:rPr>
              <a:t>http://en.wikipedia.org/wiki/Frank_Lloyd_Wrigh</a:t>
            </a:r>
            <a:r>
              <a:rPr b="0" lang="en-US" sz="3600" spc="-1" strike="noStrike" u="sng">
                <a:solidFill>
                  <a:srgbClr val="48433e"/>
                </a:solidFill>
                <a:uFillTx/>
                <a:latin typeface="Gill Sans Light"/>
                <a:ea typeface="Gill Sans Light"/>
              </a:rPr>
              <a:t>t</a:t>
            </a: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